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09C-FEDC-4850-8276-8975D88E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424-0618-460A-9F1A-A2B63D32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C2B03-F1C9-4A83-B79B-F489E468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D338-34FE-4645-AE56-075D960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1B82-5CF3-44F1-B133-2BB7DAA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4412-F8CD-4FD5-AF19-B119DA2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B1E8-AF38-47E9-86D3-0872350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3D79-DF6C-47B8-A85C-51DD2E09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73F8-4B1E-4F73-8A38-FD4820F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96734-03BF-4F2A-84A2-2905391B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3F9D-C250-4EDF-87CD-46A917E6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F621A-EA8E-4535-989B-1725A746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87F-E935-4CCE-9C70-135CE8C6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01152-B87D-4D73-841D-45FCC88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9FA2-74B5-4A32-89BD-624C0FD9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CF233-F698-40AC-A228-D1217E2B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7C367-C858-4FAB-8DD4-C9A3F914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7461-0C53-42BD-B93E-B74F8D38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39030-52CE-4169-8275-6B3ED09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BE8E-A563-4564-BB2A-7A54143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ACE0F-E4E0-4586-8F7F-D6D0CDD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189F8-B677-412E-9455-67E5CDC4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C6D27-4AB3-45AB-A4A9-D69A5666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685-20B2-486B-A400-ED1FD55B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9DCBF-7FAD-4342-A73C-68297E8D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F681A-6931-43FA-9A10-9E35F39E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3B79-7B06-4D9A-A0D4-69508FB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8A8EA-54C2-4D90-B897-C89AC35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DB4C-0A5E-484E-AAA0-C34CA9B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1CA1D-70CE-48C3-BD49-81DDABA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2344-F83E-422A-98B4-E281071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B8A0B-3BC6-4EF1-A4B5-C009643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76585-686F-4940-A668-2AE3A21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639DC-5424-491E-A4CB-7212C6C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4E8-CBB9-4A2E-A9ED-90333757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A832-8581-421A-933B-D94B906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14CCF-AF51-4DA9-9345-ACAE3E05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F0579-51A2-423C-98C7-045AE5CD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F6D03-93E7-46A0-805E-B03B1A87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BED35-862C-40A1-8C31-F9A3295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FDC8-99C2-462C-9BB0-78B514D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09133-6D1D-4A33-8311-7D3214F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3C9EE-BB89-4797-9113-0BC97AEF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B7B2A-3B3B-4E53-9CF2-89AF083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4C3F8-7A93-4DD8-8F26-C2DEFCB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1F3-8202-4E9F-811E-A40474D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B44F-CF14-44C4-B435-7188D81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77E83-1846-4835-B8AE-26E9E8E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94FB5-6286-4EEA-9360-277F9B1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98D90-AECC-4D74-A82D-5DCDDA28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BF35-E349-413C-9002-BF30DC0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16471-1C20-4DEB-842A-1C0FC55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038D6-22A9-4B57-AB36-70EEFBA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852A9-A4B0-44CE-AA82-FAC1C88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15853-0322-4B52-A16D-AAF9DF0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544DC-F57F-4ED0-A228-859874D7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9B6-15FD-42FF-B05A-2D950F3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B39C3-1397-438D-89F8-2415AA0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1098E-C14F-4027-8C8D-A06B841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EB4B5-47A2-4A80-992C-191867C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714E1-5F11-445E-94BD-DC3C622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A964F-DCA5-4684-A095-5A16D24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184A9-524E-4A7A-B1E5-60F290AD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52BC4-80AE-4B73-AE55-26C3D029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025A6-E00D-436F-B3FC-64651E64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84786-D9BF-44DC-A44A-A05951BF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3D36D-62D1-494A-9913-E0606A69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ABF9-DF6D-4EC7-9E7D-7A4B759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9690B-7E06-4C76-A6F4-80DAA25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C479E-A113-41BC-8B74-B6DC2BE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8E427-140D-4BD5-A573-C28C500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1F90B-AD01-4B42-9F35-4FB27AF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AB531-0CA1-4150-A8B4-269E948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F072A-8927-4470-BABE-6ACA111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8FBDE-D8E5-41AC-AE33-6FF8CD4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BFE4E-6CD6-4021-9E41-4EDCD116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FBDBA-CCF0-49DA-AFD1-25315C63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AB428-DC73-4362-A1F4-7A167FB8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9B8-BC32-42F8-AA51-DE2FAD7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8F9D7-562F-412B-8329-EA04B7B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22EE5-B792-4A39-9016-D4AC56C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15E83-7A23-4DDD-A308-43587E5E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A0460-9F04-4158-8F0D-648825F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DC663-F017-4F1D-B4A8-726495D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41EB3-5DFC-4B81-8212-5B49086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F6A42-318A-4EAC-9B43-22B0CDE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DA83A-31E8-49C7-9E5F-80FEA1E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19A7F-E7A9-4745-A1A1-059899AC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F836F-8594-40F5-AA57-6566CC5A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C5E8-927F-476C-B4CB-1C51A1F7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CCC14-51DB-41AB-8F8C-BBE41038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B0B06-3C15-454B-8386-E5B500AC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D742B-F6CE-457A-B94D-C0ABA469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F710F-98B4-4B7D-8499-552ADA76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AAA07-8455-44DC-A845-E0F40BB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BDAC5-F250-4AED-A082-B1F483E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BEF62-A3C8-4BBB-9F9C-AF3C009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47571-E87D-402E-8A8E-DE0109A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19050-2466-44E1-82E7-751B7B0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9DE12-8AFB-4AD5-B821-5849F1B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01A5-7FC5-48E1-AE25-2C9CA90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F84B6-AE20-477B-B046-B94876C5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5CFCB-43D5-4B3C-8046-2D3E0BF0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FFAE1-9E0F-4231-A628-8B384152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ACFA1-C052-4597-86C4-5D7EC526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458C8-5E77-4683-9A0B-A93A7E9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51136-5080-44D4-BBCF-E036166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736EC-90B8-486C-94E9-B62AD8A1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5B733-BC4C-47D0-B142-8AEE2BB9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DC345-5AB7-4605-8854-1386F10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CF3EC-9C40-4FA8-98BD-391B724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ECF-7ABC-484C-A652-5BA3383F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2119-B956-4857-A0EA-E652201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93BCB-6E6C-49A1-950F-05D6147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F9877-5EA6-401C-A811-3C1B3DE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957F7-D100-4B35-B7E3-360DDAB2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B03F5-EAD1-4284-A0F4-65636054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B37D3-56CB-4D5E-B1F8-253DDBE3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65DB0-B0F7-4659-8BE5-D2CF4EEE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213F4-B118-4FAD-A68B-0A1BF77A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59846-0F36-492F-B232-4F40B81F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3948D-C5F1-418C-8B18-5BF2FBA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3CDB4-0667-4359-9EC1-C874A7BB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A693-01A4-487D-90D1-D9E630C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70E16-3A8B-4B75-B387-D376077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7C678-8AD9-4879-AA76-C724B0EE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CEB13-8E38-4090-8818-2F0840B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2717C-7BFC-4829-A4AB-1EAECD3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CB62F-9589-4B03-B728-59D4001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CA681-916A-47F2-8DC5-24F744C2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2A26D-54B7-40EE-8008-EDDA9478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F86D2-581C-4027-BB0A-14FD0407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4121B-0190-4374-9F8F-D1E7408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B6734-074D-47C4-86A3-8B21BC2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4F2-74D3-4F6C-8906-B9F911DB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A80F7-7AD4-4714-ADDC-B424F7C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EC6A9-3286-4D04-838F-512F0617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78CCA-8378-4640-BAAD-E0ABC9B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A8F21-E233-4389-AF49-9DFD3E9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D9CD8-3FE9-4F45-9667-7600949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DF38A-22C2-4340-886A-CB7C0D8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C9117-FF84-4FE9-9DD2-5003F8A2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4D83E-8E50-4EE4-B7D6-A4870D8A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74C9B-87FC-4FFB-BFAE-4ACEBB46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B3316-B59A-42F3-A39B-2690160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38B8-897A-42D7-984D-5C55EF90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56A9C-9076-40D8-919E-8377FE9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1335B-B213-4AB5-8998-5A6A5E2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4FBD9-69CA-4327-B42D-ECA3B5E4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A16E2-082F-44EE-9D1E-363071BF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35655D-3AC8-48C8-BA36-4D06ED15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7CACC-F50C-49E9-A05E-51803E3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EFA5D-023B-40B4-89E2-30BCD64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E7A8E-D9B7-4B5A-9FA6-1E7F2C7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96B1F-F061-41D5-9EFA-006D307B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E00A5-5E55-4F6C-AFBC-4CA1199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916-B4F4-4D88-A403-8403CC8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B646C-FDA0-48D7-85DE-73DABC96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844B4-84D4-45CB-8914-CE0DFA4E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EBA44-E847-4B65-B0B8-54462FC3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96CC5-D8F7-4C7A-A6EB-2D0AF83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7467B-4E29-4C63-B7FE-4970A74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C8750-DC58-48CC-A005-90F9EEF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16FC4-1D50-4373-8323-B3672ECB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A4238-3B13-44D6-BCC9-354CAB7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508CE-4886-4998-8C06-B808702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DD492-03F1-4484-B740-9245459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721C1-811B-4EC2-BF5E-DEAEED3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59609-FFA0-47BB-96BB-9450DB95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03BA4-4FC7-4A48-B97F-B52F954B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CB4-1673-4C53-9E84-D8FE010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9058-F86D-4F6C-A136-A4743599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81ED-5F1F-4CD1-940B-4F502BB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5B2A-DA45-4465-92C0-ACA97D73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2F0-D3C8-46E8-A959-F3307BFC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B431-9462-48B3-B3E6-20AA4766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9403-1EFA-4C96-8E1F-9945125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31CA-8ACA-4593-947B-BFD17AB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65B9-D31F-4C85-A6D4-A73CD28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44C9-CD51-4E57-934A-EB8FF8B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8CE-9018-410D-810A-A36191D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1FD6-3EE9-4353-BBD6-9F16FC3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82B5-230E-4F68-90A3-C8005A5D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9FF9-A5B6-49AD-9DF6-9BB210D2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717F-DD6E-4519-BA38-6DC3C5A6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F34-6B7F-4678-AAA8-DBFF8C0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960D-8905-43FB-8BF1-0783873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82DF-A5C5-4973-9212-653BDF0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049F-B2C2-4A25-9F6F-AA95911D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9412-4597-4C50-A126-1CA4783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4167-2F1D-40F1-A264-E0EF8C1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1614-7584-4F72-AB08-065003E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1F72-3CDB-4331-8D3D-4B9329B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704E-9BBB-4AB2-826F-7AC2264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C791-4F26-4D2D-AA12-51A6A8E9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334C-F79F-4C09-A1D3-0BE85857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773-DD01-4839-9B67-E56DD59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C04E-46B1-42BC-8AA6-FBB904BB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5E692-4DCD-4D1D-AECE-9C051E8A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03CF-42F6-4B6C-9A01-A08604F7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7121-61AF-45F4-B915-D71708C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D2AC-6267-410B-AB9E-4F3F1622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A129-2E10-437B-BCDA-4D9603FB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4BABA-7785-44C0-A821-E329B811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806C-F547-4CF9-A691-EC1F761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3ED3E-3E4A-41BB-8F8B-709BF66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25BF-21CE-48AA-90BB-8BB4D89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A9C-8AD7-4833-BA88-6B01E44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17314-7D14-4594-A366-E00DA24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A2324-D2D0-44A7-94DA-A55165F2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7057-023C-4FC0-B1F0-795F07AC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E979-6DFB-4FA3-AA6C-AA838378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625C-23CD-4D42-93D6-8A8D76F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61992-0E4D-4464-B0ED-F177FA5B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5D88-D3A5-4837-B1A0-F1A3778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BFBA-1F37-4546-91F5-F92056F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38BD-8277-4429-8AFA-D863F9C7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CEAE-62F3-4EA2-969B-DC19246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9DF-21BD-43DD-B8E2-39D4283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32E8-BEAB-42CB-8E05-C428CEA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89AD1-C312-456B-9DB1-F3977B2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8720-6F53-4C9B-AC39-39EA00C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C76EE-2497-42CC-A2CD-8010127C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2845-C237-4BCE-93B5-308B519B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2E64E-5024-483A-B454-F6CB0300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CF75-5131-414E-A0F9-FFE3E39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E0601-5D68-47AA-B425-27D85F0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C8C9-23B7-430A-8CDD-C1CBB13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F6DEC-9987-4A42-9C37-61A64DC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DF8-2BBF-451E-A360-C0FD98F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E323-2A8A-46F4-9901-26096FE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9D77-1285-4E53-9554-DD69430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B54F-1E98-4881-AE03-67E9533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3A99-6D5A-4A00-8E35-610CEDC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E94A-C990-439F-B3C8-EE513DD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3B8D-0E94-48AA-8EA1-2C4916CA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B04C3-CC63-45A0-928C-E9845B66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E7D49-6941-44D3-A79C-AA96C7F5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F4BC-DC2E-4F5D-931D-03E28D9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AFB64-D580-47E3-8E41-6FE9BB2A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67DB-C414-42C6-92A8-DDDC21112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E6B1-9DCB-40CF-90E9-146D0112F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1C6-E76B-4340-9D8B-CD99FD1A9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590-48FC-419C-870F-BBD050CEB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89A-FBE1-42DC-B4B6-FD110C6A1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D48A-37D8-4264-AD23-FF5495791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F768-BF98-4284-9BD5-8CCBCBB00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5F1-0DD6-44AC-A8D2-CC91735D7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3BB-1E86-4518-A029-90BAD547DB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1B6-B59F-4B09-8FE7-FF39C25BF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1D79-2C8A-4EB3-98EE-125379000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713F-ADC3-4ABC-8A45-461B5A6A2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5329-5D87-4A7A-AC3C-C41769AA3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3C7-585E-4703-88AB-9F8F07558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3E2-0109-4B88-8796-C0D0C5F08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45F-9E2A-43A6-BABD-E94BC748F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531-743C-49D9-8C6E-1CB78C7BE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45F-620A-4330-A2EB-EE920DCE3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C3E-3AD0-473D-8D55-44ACAA1C4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842B-B23D-404C-8911-7E5C0B210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7A8-31D6-4020-8C87-2703EC8695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332E-7337-4555-802B-6241737F2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844-FFD5-4806-ABAA-4F73B9CAF8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78B-8743-40BA-853B-7070B0F2C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CCA-2A1B-4BEA-8448-B0526E9BB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9D06-10D6-4466-88E6-40B2D849E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D87B-897E-4057-BBC0-19AE55693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CC5-5455-4119-AEE5-159C0E3E3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418-ECA2-4780-B719-1C563C5915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D3C6-92E5-4735-B29B-41810B773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5F8-270B-4B82-8AD2-BC2CC97A1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F14-40EB-4E49-BD61-7F722CD02B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1DF2-59BA-450F-AA24-2B1FA9CAD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DE0-0A63-4B07-AC3F-34B07E1BF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610-5634-46D8-A71C-C19E8BF8D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919-DAE3-4C01-930D-23BCCD3A4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3052-50CA-481C-A8FF-1587D8491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4EDE-FFFB-4894-A49C-E68DC6B7A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1B7-31B0-46EE-9793-1C8C37487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63440" y="2924280"/>
            <a:ext cx="86565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3313" descr=""/>
          <p:cNvPicPr/>
          <p:nvPr/>
        </p:nvPicPr>
        <p:blipFill>
          <a:blip r:embed="rId1"/>
          <a:stretch/>
        </p:blipFill>
        <p:spPr>
          <a:xfrm>
            <a:off x="85680" y="798480"/>
            <a:ext cx="89726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4337" descr=""/>
          <p:cNvPicPr/>
          <p:nvPr/>
        </p:nvPicPr>
        <p:blipFill>
          <a:blip r:embed="rId1"/>
          <a:stretch/>
        </p:blipFill>
        <p:spPr>
          <a:xfrm>
            <a:off x="419040" y="1000080"/>
            <a:ext cx="8305920" cy="48578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755640" y="19162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755640" y="50562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376200" y="914400"/>
            <a:ext cx="8391600" cy="5610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40328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403280" y="4365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403280" y="5157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1403280" y="59500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123840" y="1457280"/>
            <a:ext cx="8896320" cy="39434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0481" descr=""/>
          <p:cNvPicPr/>
          <p:nvPr/>
        </p:nvPicPr>
        <p:blipFill>
          <a:blip r:embed="rId1"/>
          <a:stretch/>
        </p:blipFill>
        <p:spPr>
          <a:xfrm>
            <a:off x="466560" y="736560"/>
            <a:ext cx="8210880" cy="6077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26920" y="747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447840" y="941400"/>
            <a:ext cx="8248320" cy="5295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7" name="组合 9219"/>
          <p:cNvGrpSpPr/>
          <p:nvPr/>
        </p:nvGrpSpPr>
        <p:grpSpPr>
          <a:xfrm>
            <a:off x="34920" y="765000"/>
            <a:ext cx="8970840" cy="6048720"/>
            <a:chOff x="34920" y="765000"/>
            <a:chExt cx="8970840" cy="6048720"/>
          </a:xfrm>
        </p:grpSpPr>
        <p:pic>
          <p:nvPicPr>
            <p:cNvPr id="1048" name="图片 9217" descr=""/>
            <p:cNvPicPr/>
            <p:nvPr/>
          </p:nvPicPr>
          <p:blipFill>
            <a:blip r:embed="rId1"/>
            <a:stretch/>
          </p:blipFill>
          <p:spPr>
            <a:xfrm>
              <a:off x="34920" y="765000"/>
              <a:ext cx="894384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图片 9218" descr=""/>
            <p:cNvPicPr/>
            <p:nvPr/>
          </p:nvPicPr>
          <p:blipFill>
            <a:blip r:embed="rId2"/>
            <a:stretch/>
          </p:blipFill>
          <p:spPr>
            <a:xfrm>
              <a:off x="900000" y="3994200"/>
              <a:ext cx="8105760" cy="28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16000" y="256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1116000" y="3357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1187280" y="566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0241" descr=""/>
          <p:cNvPicPr/>
          <p:nvPr/>
        </p:nvPicPr>
        <p:blipFill>
          <a:blip r:embed="rId1"/>
          <a:stretch/>
        </p:blipFill>
        <p:spPr>
          <a:xfrm>
            <a:off x="704880" y="1523880"/>
            <a:ext cx="7734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2289" descr=""/>
          <p:cNvPicPr/>
          <p:nvPr/>
        </p:nvPicPr>
        <p:blipFill>
          <a:blip r:embed="rId1"/>
          <a:stretch/>
        </p:blipFill>
        <p:spPr>
          <a:xfrm>
            <a:off x="100080" y="1095480"/>
            <a:ext cx="8943840" cy="4667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3203640" y="439416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1692360" y="5200560"/>
            <a:ext cx="93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371520" y="2281320"/>
            <a:ext cx="8400960" cy="22953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4788000" y="237816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619280" y="3948120"/>
            <a:ext cx="863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1:04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